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C58-5C56-41BF-AD8D-D5E1DA79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814-A60B-4277-AFC3-131A6888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A0D-1F18-4D1D-8E78-C2D136CD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62D-5DC2-4785-9591-CCED4EC0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14C-20CD-46B6-B2BA-F0C555DE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410-88DD-4BFA-8B15-193C4840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806-4B68-4DEF-9AA6-7A8B6BFD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C09E-9D5F-4916-99DD-704C3C15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454-F031-4827-B5AD-ADB27741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FD3-2B62-41BB-9E8D-C2ABA50F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61E-D76A-4487-B4B3-A12B3E83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93DA-C6B1-46EF-A340-C7AC9DAD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3BBE-B7AF-4563-92C6-96A1DF805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ei_enroute_22solid gre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rpose of Adviso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AP Career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Fin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sei_enroute_22solid gre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nior Class Advis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AP Career 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ge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SAT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ncing a College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eer Explo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sei_enroute_7by la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6228"/>
                </a:solidFill>
                <a:latin typeface="Calibri"/>
              </a:rPr>
              <a:t>This year we will be looking at the steps to becoming financially mature, how to be responsible with your money, and how to build weal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sei_enroute_7by land.jpg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Road to Financial Mat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ro to personal finan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ving &amp; budge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anking &amp; consumerism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dit &amp; deb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 loans &amp; ren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vesting &amp; retireme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2:44:50Z</dcterms:created>
  <dc:creator>admin</dc:creator>
  <dc:description/>
  <dc:language>en-US</dc:language>
  <cp:lastModifiedBy>Leif Erickson</cp:lastModifiedBy>
  <dcterms:modified xsi:type="dcterms:W3CDTF">2011-08-07T15:00:53Z</dcterms:modified>
  <cp:revision>6</cp:revision>
  <dc:subject/>
  <dc:title>Junior Class Advisory</dc:title>
</cp:coreProperties>
</file>